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71D8-62A1-48EE-A0BB-D39527D53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6209-4AB7-49FD-94D3-4508BA2C6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FEF2-7CF1-4752-8F3A-8C4BD025F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C1F7-A223-488E-8164-759A5DB64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78FE-3211-4643-A674-1B854B6A8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C5CB-F2EF-4A40-80C4-3BD4ED560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A8CF-AC7F-49E6-9E0A-3DDF1B0EE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C03E-328B-4387-8155-12BD950F9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7382-95FE-4D32-8141-6E4D6B92F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27E7-39E4-4453-B76A-5512D72E1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5BB1-DBA2-4A99-8085-69050B93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C563-9DEC-4E51-810D-22FD4D48D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297CE-AB60-4671-B6EA-662D265E60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600" spc="-1" strike="noStrike">
                <a:solidFill>
                  <a:srgbClr val="ff3300"/>
                </a:solidFill>
                <a:latin typeface="Calibri"/>
              </a:rPr>
              <a:t>Allegato 17</a:t>
            </a:r>
            <a:br>
              <a:rPr sz="3600"/>
            </a:br>
            <a:r>
              <a:rPr b="1" lang="en-US" sz="3600" spc="-1" strike="noStrike">
                <a:solidFill>
                  <a:srgbClr val="ff3300"/>
                </a:solidFill>
                <a:latin typeface="Calibri"/>
              </a:rPr>
              <a:t>Open Point e Verifiche </a:t>
            </a:r>
            <a:br>
              <a:rPr sz="3600"/>
            </a:br>
            <a:br>
              <a:rPr sz="4000"/>
            </a:b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Gestione delle richieste di NP geografica non associate all’accesso 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Prima portabilità e portabilità successiva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(c.d. NP pura)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Delibera n.  41/09/CIR</a:t>
            </a:r>
            <a:br>
              <a:rPr sz="2800"/>
            </a:b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11280" y="0"/>
            <a:ext cx="7772400" cy="8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OPEN POINT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CHIU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79280" y="692280"/>
            <a:ext cx="878544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lenzio assens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ifiche formali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na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è previsto il silenzio assenso nel testo della delibera 41/09/CIR ma non nel diagramma a blocchi della delibera stess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ifiche tecniche e capacità di evasion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na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non è previsto il silenzio assenso nel testo della delibera 41/09/CIR ma è previsto nel diagramma a blocchi della delibera stessa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PREVISTO IL SILENZIO ASSENSO IN ENTRAMBE LE VERIFICHE CON PIATTAFORMA HTT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oltà per il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cipi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i annullare la richiesta di NP verso il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n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PREVISTA FACOLTA’ DI ANNULL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ifica associazione “Nome/Cognome cliente” con il “Numero Telefonico”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NON PREV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sibilità per “Telecom Itali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tai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di ricevere informazioni circa l’operato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cipi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outing numb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OSTITUITO CON OPEN POI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sibilità per il donor di rimodulare la DA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PREV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fica conferma della DAC da parte del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n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l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na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=&gt; NON E’ PREV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79280" y="836640"/>
            <a:ext cx="878544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iattaforma di comunicazione TI: https, sft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3300"/>
                </a:solidFill>
                <a:latin typeface="Arial"/>
              </a:rPr>
              <a:t>CONCORDATO UTILIZZO PER TUTTI I DONOR DELLA PIATTAFORMA HTTP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N da indicare nelle richieste di NP in caso di GN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3300"/>
                </a:solidFill>
                <a:latin typeface="Arial"/>
              </a:rPr>
              <a:t>SI INVIA IL RADICALE O IL NUMERO FATTUR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dice Progetto Special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3300"/>
                </a:solidFill>
                <a:latin typeface="Arial"/>
              </a:rPr>
              <a:t>PREVIS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Mancano i tracciati record della comunicazione dell’eventuale rimodulazione della DAC dal Donor verso il Donating e il Recipien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3300"/>
                </a:solidFill>
                <a:latin typeface="Arial"/>
              </a:rPr>
              <a:t>PREVIS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a inserire diagramma a blocchi della cessazione e causali di scarto della cessazione/cessazione con rientro in TI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3300"/>
                </a:solidFill>
                <a:latin typeface="Arial"/>
              </a:rPr>
              <a:t>PREVIS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Manca il diagramma a blocchi della comunicazione dal Donating tecnico al Donating Commerciale nel caso Vull e WLR. Manca il tracciato record per tale comunicazione e le causal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3300"/>
                </a:solidFill>
                <a:latin typeface="Arial"/>
              </a:rPr>
              <a:t>PREVIS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i fissano gli orari e ognuno espleta nella finestra temporale stabilita (donor, donating, recipient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a valutare l’opportunità di allargare la finestra temporale standard (da 06:00 a 08:00 a 06:00-9: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3300"/>
                </a:solidFill>
                <a:latin typeface="Arial"/>
              </a:rPr>
              <a:t>CONDIVISO FINESTRA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06:00-9: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a verificare la seguente causale di scarto “Ordinativo di variazione del servizio di accesso” prodotta dal Donating nei seguenti 3 casi: trasloco, cambio coppia e migrazione da VULL a U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3300"/>
                </a:solidFill>
                <a:latin typeface="Arial"/>
              </a:rPr>
              <a:t>PREVIS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Qualora in file inviato dal Mittente abbia un naming errato il Donor e Donating  scartano il file stes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3300"/>
                </a:solidFill>
                <a:latin typeface="Arial"/>
              </a:rPr>
              <a:t>PREVIS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8360" y="44280"/>
            <a:ext cx="8064360" cy="8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VERIFICHE CHIUSE (1/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79280" y="836640"/>
            <a:ext cx="878544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Flag NP per richieste su linea ISD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3300"/>
                </a:solidFill>
                <a:latin typeface="Arial"/>
              </a:rPr>
              <a:t>Mantenuto flag NP per la prima portabilità da T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erificare a cura T.I. la possibilità di gestire la portabilità successiva, la cessazione e la cessazione con rientro delle singole numerazioni di un accesso ISD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3300"/>
                </a:solidFill>
                <a:latin typeface="Arial"/>
              </a:rPr>
              <a:t>PREVIS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erificare a cura T.I. la possibilità di comunicare i DN aggiuntivi di un accesso ISDN in fase di accettazione a t</a:t>
            </a:r>
            <a:r>
              <a:rPr b="0" lang="it-IT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3300"/>
                </a:solidFill>
                <a:latin typeface="Arial"/>
              </a:rPr>
              <a:t>PREVIS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Manca il tracciato record per tale comunicazione e le causal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3300"/>
                </a:solidFill>
                <a:latin typeface="Arial"/>
              </a:rPr>
              <a:t>PREVIS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rocesso di cessazione con rientro. Posizione OLO al tempo t2 ( da definire a cura TI) TI deve comunicare la DAC di cessazione con rientro e tutti gli scarti. Posizione TI: possibilità di fornire gli scarti anche in fase di provisioning di rete sino alla DA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3300"/>
                </a:solidFill>
                <a:latin typeface="Arial"/>
              </a:rPr>
              <a:t>DEFINITO IL TEMPO </a:t>
            </a:r>
            <a:r>
              <a:rPr b="0" lang="it-IT" sz="1400" spc="-1" strike="noStrike" baseline="-25000">
                <a:solidFill>
                  <a:srgbClr val="ff33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ff3300"/>
                </a:solidFill>
                <a:latin typeface="Arial"/>
              </a:rPr>
              <a:t>t2&lt;=t1+20gg solari  in cui TI fornirà la DAC di cessazione con rientro oppure  tutti gli eventuali scar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Modalità di comunicazione da parte di TI-WH di cambio ID risorsa per gli accessi che passano da ULL+NP a NP per i quali deve essere comunicato il nuovoI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3300"/>
                </a:solidFill>
                <a:latin typeface="Arial"/>
              </a:rPr>
              <a:t>Gli OLO hanno convenuto che il nuovo ID a seguito del passaggio da ULL+NP a NP sarà comunicato da TI Wholesale con il Tracciato record del’ULL nell’ambito dei tracciati record ULL. Tale funzionalità sarà implementata da TI e da tutti gli operatori entro l’avvio delle nuove procedure di NP pur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erifica della possibilità del Donor di ricevere dal donating ed inviare al recipient le notifica di validazione PIN di TI Donating anche il sabat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3300"/>
                </a:solidFill>
                <a:latin typeface="Arial"/>
              </a:rPr>
              <a:t>PREVIS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44280"/>
            <a:ext cx="8064360" cy="8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VERIFICHE CHIUSE (2/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6T12:37:45Z</dcterms:created>
  <dc:creator>Utente</dc:creator>
  <dc:description/>
  <dc:language>en-US</dc:language>
  <cp:lastModifiedBy>Gian Luca Gennaro</cp:lastModifiedBy>
  <dcterms:modified xsi:type="dcterms:W3CDTF">2010-09-07T14:41:23Z</dcterms:modified>
  <cp:revision>91</cp:revision>
  <dc:subject/>
  <dc:title>OPEN POINT</dc:title>
</cp:coreProperties>
</file>