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520" y="248760"/>
            <a:ext cx="7479000" cy="4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1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781200"/>
            <a:ext cx="883944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280" y="3780720"/>
            <a:ext cx="883944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248760"/>
            <a:ext cx="7479000" cy="4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1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781200"/>
            <a:ext cx="431352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800" y="781200"/>
            <a:ext cx="431352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280" y="3780720"/>
            <a:ext cx="431352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1800" y="3780720"/>
            <a:ext cx="431352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248760"/>
            <a:ext cx="7479000" cy="4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1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781200"/>
            <a:ext cx="284616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41000" y="781200"/>
            <a:ext cx="284616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0080" y="781200"/>
            <a:ext cx="284616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280" y="3780720"/>
            <a:ext cx="284616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41000" y="3780720"/>
            <a:ext cx="284616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0080" y="3780720"/>
            <a:ext cx="284616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520" y="248760"/>
            <a:ext cx="7479000" cy="4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1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2280" y="781200"/>
            <a:ext cx="8839440" cy="57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520" y="248760"/>
            <a:ext cx="7479000" cy="4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1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280" y="781200"/>
            <a:ext cx="883944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248760"/>
            <a:ext cx="7479000" cy="4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1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781200"/>
            <a:ext cx="431352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1800" y="781200"/>
            <a:ext cx="431352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248760"/>
            <a:ext cx="7479000" cy="4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1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520" y="248760"/>
            <a:ext cx="747900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248760"/>
            <a:ext cx="7479000" cy="4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1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781200"/>
            <a:ext cx="431352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781200"/>
            <a:ext cx="431352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52280" y="3780720"/>
            <a:ext cx="431352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23520" y="248760"/>
            <a:ext cx="7479000" cy="4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1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280" y="781200"/>
            <a:ext cx="8839440" cy="57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248760"/>
            <a:ext cx="7479000" cy="4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1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781200"/>
            <a:ext cx="431352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1800" y="781200"/>
            <a:ext cx="431352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1800" y="3780720"/>
            <a:ext cx="431352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520" y="248760"/>
            <a:ext cx="7479000" cy="4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1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781200"/>
            <a:ext cx="431352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800" y="781200"/>
            <a:ext cx="431352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2280" y="3780720"/>
            <a:ext cx="883944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248760"/>
            <a:ext cx="7479000" cy="4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1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781200"/>
            <a:ext cx="883944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52280" y="3780720"/>
            <a:ext cx="883944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520" y="248760"/>
            <a:ext cx="7479000" cy="4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1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781200"/>
            <a:ext cx="431352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800" y="781200"/>
            <a:ext cx="431352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280" y="3780720"/>
            <a:ext cx="431352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1800" y="3780720"/>
            <a:ext cx="431352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520" y="248760"/>
            <a:ext cx="7479000" cy="4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1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781200"/>
            <a:ext cx="284616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41000" y="781200"/>
            <a:ext cx="284616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30080" y="781200"/>
            <a:ext cx="284616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52280" y="3780720"/>
            <a:ext cx="284616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141000" y="3780720"/>
            <a:ext cx="284616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30080" y="3780720"/>
            <a:ext cx="284616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520" y="248760"/>
            <a:ext cx="7479000" cy="4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1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280" y="781200"/>
            <a:ext cx="883944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248760"/>
            <a:ext cx="7479000" cy="4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1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781200"/>
            <a:ext cx="431352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1800" y="781200"/>
            <a:ext cx="431352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248760"/>
            <a:ext cx="7479000" cy="4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1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23520" y="248760"/>
            <a:ext cx="7479000" cy="21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520" y="248760"/>
            <a:ext cx="7479000" cy="4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1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781200"/>
            <a:ext cx="431352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781200"/>
            <a:ext cx="431352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280" y="3780720"/>
            <a:ext cx="431352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248760"/>
            <a:ext cx="7479000" cy="4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1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781200"/>
            <a:ext cx="431352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781200"/>
            <a:ext cx="431352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1800" y="3780720"/>
            <a:ext cx="431352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520" y="248760"/>
            <a:ext cx="7479000" cy="4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1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781200"/>
            <a:ext cx="431352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781200"/>
            <a:ext cx="431352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280" y="3780720"/>
            <a:ext cx="8839440" cy="27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280" y="781200"/>
            <a:ext cx="883944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3520" y="248760"/>
            <a:ext cx="7479000" cy="4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1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302000" y="6561000"/>
            <a:ext cx="540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73D0-30F0-4B7E-A51B-9E2D02D68D47}" type="slidenum">
              <a:rPr b="1" lang="en-GB" sz="1000" spc="-1" strike="noStrike">
                <a:solidFill>
                  <a:srgbClr val="0007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5280" y="2638080"/>
            <a:ext cx="8352000" cy="15843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4003560"/>
            <a:ext cx="8951760" cy="119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892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Arial"/>
              </a:rPr>
              <a:t>Il 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COW</a:t>
            </a:r>
            <a:r>
              <a:rPr b="0" lang="it-IT" sz="1600" spc="-1" strike="noStrike">
                <a:solidFill>
                  <a:srgbClr val="000099"/>
                </a:solidFill>
                <a:latin typeface="Arial"/>
              </a:rPr>
              <a:t> individua il Donating a cui il Recipient deve indirizzare la comunicazione preliminar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Arial"/>
              </a:rPr>
              <a:t>Il 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COR</a:t>
            </a:r>
            <a:r>
              <a:rPr b="0" lang="it-IT" sz="1600" spc="-1" strike="noStrike">
                <a:solidFill>
                  <a:srgbClr val="000099"/>
                </a:solidFill>
                <a:latin typeface="Arial"/>
              </a:rPr>
              <a:t>, generato da TI in fase di attivazione del servizio intermedio ed utilizzato dal Donating in fase di Assurance, individua univocamente la risorsa tecnica da migrar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Arial"/>
              </a:rPr>
              <a:t>Il 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COS</a:t>
            </a:r>
            <a:r>
              <a:rPr b="0" lang="it-IT" sz="1600" spc="-1" strike="noStrike">
                <a:solidFill>
                  <a:srgbClr val="000099"/>
                </a:solidFill>
                <a:latin typeface="Arial"/>
              </a:rPr>
              <a:t> individua il servizio intermedio utilizzato dal Donating e permette  al Recipient di determinare i tempi (10/20gg lav) della FAS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520" y="248760"/>
            <a:ext cx="7479000" cy="4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1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Formato Codice di Migrazione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5000" y="2211480"/>
            <a:ext cx="8869320" cy="1120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73160" y="912960"/>
            <a:ext cx="8970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</a:rPr>
              <a:t>L’operatore Donating renderà disponibile al cliente finale il codice di migrazione (contente COW COR e COS) unitamente all’elenco di tutte le numerazioni associate all’accesso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08:26:38Z</dcterms:created>
  <dc:creator>Administrator</dc:creator>
  <dc:description/>
  <dc:language>en-US</dc:language>
  <cp:lastModifiedBy>Wind Telecomunicazioni S.p.a.</cp:lastModifiedBy>
  <dcterms:modified xsi:type="dcterms:W3CDTF">2008-04-22T16:54:56Z</dcterms:modified>
  <cp:revision>193</cp:revision>
  <dc:subject/>
  <dc:title> Attivazione  </dc:title>
</cp:coreProperties>
</file>